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EF4-C94A-4C62-BE15-2D195092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0F4-A47B-4149-A581-23DAA25F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BF0A56-AE66-4BDE-8EA0-36948AFE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CE2A7-CDE8-4120-A20E-53EF609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B2692-0535-448F-B99E-DED3E27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FB6D5-82F3-4739-A090-3210C96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23A7C-D0DD-4772-9B45-0CBDC114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E9484-7EEA-4A61-89FD-23ED4444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CE4A9-7DD7-41EC-8740-75F0774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EFAC3-C526-4B2B-8B40-382D2FFB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40159-1F76-4E34-B754-0DA4A30E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D46F9-7416-4923-A4A8-06208888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F2E-43EE-4BCE-A470-0F88C218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70C31-8C95-44F1-91B7-A4DDA4C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B80DD-B834-4050-876B-D8D2898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F74EA-0F0F-4A15-8D39-D217277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7535D-E5AD-4D76-B097-CA1435D9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8F063-847E-4010-864E-1AE4CA9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EE447-05FE-44B7-8840-A0F7622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6CF53-43C8-47A5-9B8D-38EF1E7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5B828-3288-46EA-B327-1C786C16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4552B-21F7-4373-9B42-2DDC2228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A9DE-4D6B-4042-A445-2516455D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A73-2D0D-438B-8D8C-78DE721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4BDA3-6370-4FD8-9AA9-272B6C5B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C328-8806-4A78-8699-CE7D1384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C9A04-69B3-4F60-86E2-FA55FFAF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85E87-40E8-4791-8195-2B04E40C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25034-D7E3-46C9-A681-8BE578CB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669A-9657-4B53-8483-68B3E220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7323A-0B82-476C-9524-C99B5E4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37E02-D076-412B-9853-89C5139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8CE9B-084F-4733-A983-D618708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312A2-6317-4540-9B38-7E700704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06C3-5A67-4AD9-BAE9-D9886871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1F452-22E6-47A1-90BB-DF1C7E4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B8EE-D42E-424E-9451-3C7ACBD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03B35-AF59-444D-BC9F-42436796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545D-6E0F-49DC-A899-0744E19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582A-84D6-4E9C-800C-0B76DA4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FC44-FB81-4BF8-9608-3FC6DF07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98F-6745-42C2-8BA5-2BA68966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74DD-1841-4F07-8A25-0F88DF2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8F7E-ED3B-429C-8340-29D69CEC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10B-E494-4975-9325-5A3A8248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50F5-C49F-4414-8664-E26D738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F593-A7FA-47B3-841E-8F3A7AF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C5EA-0CC4-44D8-8800-8A962DF0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EC80-26C8-46CE-B1E2-F69DDE45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4D7-6CE1-42B7-BF36-F8B6A135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48A6-BF3C-4B02-8D8F-BBD75E53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B2188-FDAD-4590-9C2A-366B8CE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3BA19-BD82-48A0-8295-129E99C4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129E-C45B-452B-BD50-4FF837FE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9AD1-E555-424F-8DFE-4A723147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6D6-0F55-4769-B3EA-ED50274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C184-8D20-471A-931F-4A0BB2E1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FC9E-0DA9-45F3-990D-B55AA77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0AE2-AA47-466A-8983-99268AE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1A5E-A4AD-4862-83F2-D34B4BA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4034B-438B-44C6-9758-33EDF4D1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20E5-61A4-4DCF-B8DE-D0F87F3C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2EA32-D905-454A-8730-0EFE1CDD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74DE1-AE74-4246-AA0A-69DCC47C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4CCE-4591-408D-A663-997F630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3FC9B-F379-4B4C-9503-2FA978DD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EDF-87DF-45A6-A112-332B1956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3DF8-5504-497C-BE78-05BFB0F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D2001-860E-457E-AC04-04EDBF7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AF8DF-D5E9-4B62-A643-A334B6A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C104-90D4-4204-9BD7-1793C0C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A54FA-2572-4692-AA46-87B8654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68A5-1ADA-4BEA-9368-58EB43F8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CA03-3920-42C8-9D17-DE763CB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B09D-806E-4DFC-8245-3522274D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4D36-77B7-4567-B094-ABA53283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6FA92-7ABE-4B53-879E-58B69910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C4A-1018-4F2B-AD97-8F335F4A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F6BA-D3D8-408E-99D3-84E6195B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26C0C-A599-44DD-BF80-0FE442C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B04DA-4E25-45A5-AC37-A92EE79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5646-EA51-4D4B-928C-434379B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4E4B3-1B16-4BAC-80B9-2A14947C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1F3C-EF8D-4E2F-AF3A-DFD6B64A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AE942-542C-4325-8D3D-BB53F1F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211B1-8ACB-48B7-BD2B-C9065B9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3B90-27CC-4948-9B3C-1A1ABC05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0F477-262E-47AB-AC05-60D6B47F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01A-BCB3-4CCC-ACC0-F88AE1DC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5764-C340-4338-BEB5-3F3BB311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73766-7002-4142-99D6-E453F5C9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14048-4194-4A0B-A2C1-7256BF58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070C6-A887-47BA-B514-02FA58EF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24421-428A-445A-92CE-3818FB44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A2791-1556-4D94-9013-941991A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7DE1C-414F-4B5D-804F-9905ACE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FFF78-58A9-48BD-BCC4-AC32C029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149B0-1137-4DED-9AA0-31FE07C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3DC3D-608B-48CA-9688-9DF73AA4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49E-F3DE-46AB-9202-23F69C6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99729-206C-4888-91F6-54E0973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3B434-1737-42CE-A98F-4D044D27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5B47F-082D-4136-9E00-D8434E8C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876A1-3DAC-429B-8842-F3511B90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1B4F-3E84-4B83-9FAB-739988AD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37B34-2FA0-4509-B306-64BCD3B2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31564-AA17-479D-838B-6B8FBE42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E9F89-DF7F-44C6-A0B5-F4741561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B46AC-1A77-49A5-BD0D-2D5A989D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8BF2D-9D09-4E3A-9A52-B59705C3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1D9-6E97-42EE-98F1-A92E5F48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D4040-A77C-4707-AF43-E97EB20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C17F-B966-4847-8CB4-18F9911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0AAE5-1C91-4E8D-9274-F76DEA25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0F3AD-9EEF-47CC-A97D-019490F9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07BA-4D57-4985-AF94-939F2B63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5709A-54DE-4C41-BB2D-1875A5F7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6A21-DCB9-454C-8ECD-A7252E86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A2BF6-982B-415D-AF9B-C8974083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0929-54E9-41DB-B1FA-B16EC824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1617-EF4E-4EF8-A60D-A53C5E9F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014-3CC8-4AE6-B0B7-D57F2E51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D3C03-1599-4850-AFAC-C0D3E574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60CF6-13D3-4D6A-A9EF-DD39C34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5587-C646-4239-84BC-AA3E1F1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1482-FA4F-4F3A-AD16-E45D126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7966-A5AB-47AF-B311-9981D16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59F8C-D179-4398-B47C-FBCD6D10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9EBE-BC35-437B-AF90-B2583FE7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B075B-0F78-42A5-BC7D-FF3EC662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6AFFCA-3DFF-4BF0-B696-A6E524BE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C80B1-2BDE-4BC9-8D2A-A044965D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BCC0-C47E-4CD3-AD0F-FED59073FA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4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DF06-0AAC-479E-BECF-63CB7420D4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A3B-9C5E-48C6-898E-C2463417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E4A2-D46B-47AB-A751-06B44C69E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9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A44C-971C-4205-AEBD-2C35B7BF5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4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981-F441-4A4A-BEAA-278FD0597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B6FF-B74C-4974-96AE-5C11294A0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427-E0AA-4A3C-91A4-77E2D199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1ED0-B1F3-4496-99D3-1FAFE8C21A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56A5-0F19-4AB2-8514-0610EFC3B3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8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B2B6-5EF8-467B-9531-7ED8D5A059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om/imgres?imgurl=http://www.umass.edu/nrec/images/category_images/watershed_2.jpg&amp;imgrefurl=http://www.umass.edu/nrec/watershed_water_quality/index.html&amp;h=480&amp;w=291&amp;sz=52&amp;hl=en&amp;start=78&amp;tbnid=gbjNc4hlsIp1JM:&amp;tbnh=129&amp;tbnw=78&amp;prev=/images%3Fq%3Dwatersheds%26start%3D72%26gbv%3D2%26ndsp%3D18%26hl%3Den%26safe%3Dactive%26sa%3D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1828800" y="1523880"/>
            <a:ext cx="5410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Watershed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2971800" y="4038480"/>
            <a:ext cx="3038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By: Ashley Gib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5712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watershed is a basin like landform defined by highpoints and ridgeli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828800" y="609480"/>
            <a:ext cx="5715000" cy="1866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What is a watershed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655" name=""/>
          <p:cNvSpPr/>
          <p:nvPr/>
        </p:nvSpPr>
        <p:spPr>
          <a:xfrm>
            <a:off x="2852640" y="1805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6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3048120"/>
            <a:ext cx="2057400" cy="290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tersheds are located all over the country. The Chesapeake Bay, The Atlantic Ocean and The Pacific Ocean are examp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772080" cy="32860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1981080" y="457200"/>
            <a:ext cx="54104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76765e"/>
                    </a:gs>
                  </a:gsLst>
                  <a:lin ang="5400000"/>
                </a:gradFill>
                <a:latin typeface="Arial Black"/>
              </a:rPr>
              <a:t>Where are watershed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76765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first part of a watershed is the watershed divide. The second part is the mouth and the third part is the Ground water. (Aquif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 txBox="1"/>
          <p:nvPr/>
        </p:nvSpPr>
        <p:spPr>
          <a:xfrm>
            <a:off x="1295280" y="304920"/>
            <a:ext cx="60199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>
                    <a:alpha val="98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rts of a watershed</a:t>
            </a:r>
            <a:endParaRPr b="0" lang="en-US" sz="1800" spc="1" strike="noStrike">
              <a:ln w="0">
                <a:noFill/>
              </a:ln>
              <a:solidFill>
                <a:srgbClr val="00ff00">
                  <a:alpha val="98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07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ls that live in watersheds are fish, turtles, water bugs, snakes, and many more. Animals that live around watersheds are birds, snakes, butterflies, bugs, frogs, and lizards, to name a f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62120" y="457200"/>
            <a:ext cx="7391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hat lives in watersheds?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228600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1676520" cy="12654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1743120" cy="12603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5"/>
          <a:stretch/>
        </p:blipFill>
        <p:spPr>
          <a:xfrm>
            <a:off x="4343400" y="5562720"/>
            <a:ext cx="1600200" cy="109224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6"/>
          <a:stretch/>
        </p:blipFill>
        <p:spPr>
          <a:xfrm>
            <a:off x="7391520" y="5715000"/>
            <a:ext cx="1228680" cy="80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Slides, Backgrounds, and Music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shley Gib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dited By: Ms. Mauney-Tyl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523880" y="304920"/>
            <a:ext cx="54864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Pussycat"/>
              </a:rPr>
              <a:t>THE End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Pussycat"/>
              <a:ea typeface="Pussycat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23:24:35Z</dcterms:created>
  <dc:creator> </dc:creator>
  <dc:description/>
  <dc:language>en-US</dc:language>
  <cp:lastModifiedBy>PWCS</cp:lastModifiedBy>
  <dcterms:modified xsi:type="dcterms:W3CDTF">2008-04-10T12:47:12Z</dcterms:modified>
  <cp:revision>20</cp:revision>
  <dc:subject/>
  <dc:title>Slide 1</dc:title>
</cp:coreProperties>
</file>