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99A-F1C7-4637-93A9-302BBC93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01A-0DEE-41EC-B1DC-5CBB585D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540B7E-92D5-41B6-8BA4-8452EB57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A8B9E4-3343-4F48-8937-E0B80539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765A25-C25F-4F68-8D3A-6AC40498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E017C2-5012-4721-9BB6-24D05BC6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1749A9-9433-4621-B535-61833400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A01D38-1FCF-4496-8CDF-3AA5B06F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839C3E-B902-489A-A77F-38DD86DE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E01A20-5595-4132-8E0C-67D7F8C0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2137B7-8F2C-4D45-AF85-76CBB1F1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7BEAE-F0B9-48C7-9413-1F660F58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783-0A0E-418D-A743-D8482D96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369DB-4C8E-4ADB-8B76-E3B04EF1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12C33-88D5-4322-B5CA-3467833F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3463E-B481-4EEB-850D-9C66FBCA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7A56B-E7C3-4791-B719-7E8A4284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07249-64B2-4764-B820-F3ED8259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FF407-36F5-4207-93B0-D0273B68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80941-ACBD-4BD0-A603-2220E0D8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DA018-A639-4780-ACA5-D6FF9A44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03719-44AD-4E96-884D-B9A9C15F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4C373-3960-4838-8F5B-6EBE6703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676-DE6F-4A80-AFAD-08018CA0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BEC4D-2474-435E-999E-2BA357C0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8A34B-BAA3-4ADE-B82F-D4EB9773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BA93E-24A9-4CE9-B8D0-09CF98DE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AC1EA-F971-49E6-89AF-EA52782F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4936F-4785-4198-8E81-12AA543F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BA1A1-DC96-4B9A-98DC-72A443D1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06304-1358-4E4E-A008-4E6614DE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5A773-7B7B-4309-A681-A318C76D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A67E2-FA50-4315-B798-9E494410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87C5C-FE69-4E5E-A991-EC902E03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A26B-BDDC-4F94-847E-82012E79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811DE-E6AF-4F79-8F11-B239A08D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30B37-6A9C-4895-A3E8-5EBC0E60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C6581-81BE-434B-B3B3-52EF0B20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1CF2-31FB-42BD-8591-19D0AC27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53D8-30AA-47CB-B542-36D7AAD3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79C3-FA42-4348-B775-6F044769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0AC9-5FF2-430F-B649-797FECE0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66D4-4361-489A-B64F-D7891AFA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968C-0E34-49CC-B356-C7AB3525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E6B-4ECC-45F6-95E2-FE7D9374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9E29-7F37-408B-A260-280C84CF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B249-C8A9-4D00-A017-E57D61D0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C178-EE3E-4397-9B8F-151A02A3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60D1-01BB-4819-9D62-28A12D93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6BFD-6C67-4190-8633-F2C52275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1483-7CD2-45F9-BB9B-E12D637D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2BD2-8F3D-4442-AE34-66F7FA5D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D330-00CC-461F-AE96-F07892D4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2951-87C2-467E-8C48-BBA098C1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FE031-2683-4F3A-AF2A-68E5483A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BFE-D326-4B96-9981-341EFDF6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236E1-A382-4D41-9220-0CFE5B2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84B6-581E-4EAA-B27D-0D7F8A68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3CBA-0618-488A-87C0-D4B52674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56CD-5150-4920-B7C2-B06B08F4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C757-A800-4B98-8FEC-143299FA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34B9-A6D2-423B-9EEA-067AD4EF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11FD6-0DEB-4540-95DD-44DC2FBA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5E375-D326-400C-81A8-2B1E2544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3B753-1EA7-4E22-A784-F78E4E27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26614-E2EF-4ADD-8DBD-11CA51E9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E2D-29C0-4A97-B6C3-5AD761E2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7D05-13CE-48EF-AADF-7920DDEE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6B35E-1239-44D9-B9D4-CD670D94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34878-954F-4773-865B-78BB9BF9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86567-C854-46F8-9A75-B6CBE2A8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4FF3E-CE8D-4035-AE8A-3CA415F1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F6538-D63D-4B04-99F9-5050ED77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3CD7C-9820-4EE0-A82C-A97D82D6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58FC0-9647-4E30-8BFA-16F771A6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C6CD-7CA1-454B-BC2D-8E649D62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4B131-9E1A-49BE-A13F-B64433B0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8FE-2240-41AB-9F8B-C287F40C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B8918-B442-4FFC-8EBF-20E5621B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37412-C911-4727-AC91-A5C654F7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FE83C-ACA1-4194-890D-0C68865E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692CD-DC4D-4C40-9721-58008236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6578A-43EF-481A-B181-DF052C27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5422E-2E47-4291-8AF9-9FF01D90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4D616-7F20-4937-B706-050EA9C7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09C5A-1ABE-4DCC-9F73-4B4441A7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91547-333F-4F30-A245-3368E49D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E5BB3-945E-484A-9EB9-EEB05F13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3A2-0459-4FC0-964E-3D9E6EB1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70F3F-2261-4208-AECC-2FDC6C0A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125BF-44BD-4493-A57B-C5B932BA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23A4D-8C00-4904-A5E0-B8ECB99A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AED65-4EED-45C0-897F-7453D0FB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EC098-F088-4CF5-8E3E-1773A40E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6AF71-BD3B-4805-8203-A0CD58BF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597D95-3D8C-48DF-998F-E0308F71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71C107-1513-4C78-8187-0B51745F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42845-447D-4E43-86BE-0F6CE7FE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534BB-AE0E-44ED-825D-EE2A69EB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996-5BB8-424A-940A-BC1EF80F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997A5-1167-44F1-B011-29AA9FF2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FCCD6-2655-43BE-B974-1BF3F2BB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669E6-D621-41E1-AB7F-30A48DA2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098C3-5264-4557-9DDF-293CE7C3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11CF8-3E2B-43AE-AA31-B5838B00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9EC9B-8E34-404E-9EC4-CC1C2113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92B91-8171-4227-B7D1-4508CCCF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27167-B460-4B3D-98CE-CFF56853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76B05-E24D-43D3-BC4F-3CED5CBD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AADB-F6A4-4785-89A1-126766F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2B3-A9EF-40BF-BC1E-30F7E019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4C95A-53CA-4E36-B7BE-47351A50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445C4-5E73-43CD-8F7A-D77C218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FB36C-4D70-4F64-B010-EE97E12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9B196-434E-4598-837D-25679BED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A9624-B8A7-4AF3-B0B6-092911B2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5EE51-07DA-49EB-BA88-A86038C0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37764-342E-4958-BB63-C0C0D119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94151-547B-4B47-AB90-7E5301E1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683A7-403F-4916-BB3D-3364B1D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DC22E-D9D4-47A9-A554-843467AD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9A5-3040-403C-AF31-38849593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90505-3703-4E99-9AFD-F9DDDFDE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6A8B1-C2D6-4C16-A478-F20F2B6D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95A94-F823-4C8B-86DC-00F53E70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218EA-7D14-4770-9102-36840F14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1AC9C-F990-40A1-BC32-188909F2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ECEED-B5ED-4772-B49F-CFF5927F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6CDF8-ACD3-4690-9F53-8B404514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301D2F-764D-44B7-83FC-783A6FB5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D30502-1272-47F7-9D1E-58078F34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F9F1F8-77E4-4440-B5DA-FAFFFA76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ED00-E694-4D9A-9F7E-6F063254ED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4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F07A-367F-422D-B428-F6370DB0FEC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F7F9-68AB-4B89-AF66-D3084088F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9D4B-9844-47D4-A8BB-79055CEC63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9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E0CE-AC7B-4E4C-AFBB-0B91A95F9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4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C688-3BF5-4ABE-BB75-7288E5AA9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2AB0-D649-4A44-A171-A1CBADDEA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204F-DA91-42A4-868C-B8DA69E3C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7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0D29-86EF-4B9B-A0A1-A4413F9E0D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1C2C-9BEF-4974-BAEB-E80A4BED61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8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7D86-926F-4C78-897A-0F4A4C5D0E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om/imgres?imgurl=http://www.umass.edu/nrec/images/category_images/watershed_2.jpg&amp;imgrefurl=http://www.umass.edu/nrec/watershed_water_quality/index.html&amp;h=480&amp;w=291&amp;sz=52&amp;hl=en&amp;start=78&amp;tbnid=gbjNc4hlsIp1JM:&amp;tbnh=129&amp;tbnw=78&amp;prev=/images%3Fq%3Dwatersheds%26start%3D72%26gbv%3D2%26ndsp%3D18%26hl%3Den%26safe%3Dactive%26sa%3DN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1828800" y="1523880"/>
            <a:ext cx="5410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Watershed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2971800" y="4038480"/>
            <a:ext cx="3038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By: Ashley Gib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5712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 watershed is a basin like landform defined by highpoints and ridgelin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828800" y="609480"/>
            <a:ext cx="5715000" cy="1866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What is a watershed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655" name=""/>
          <p:cNvSpPr/>
          <p:nvPr/>
        </p:nvSpPr>
        <p:spPr>
          <a:xfrm>
            <a:off x="2852640" y="1805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3048120"/>
            <a:ext cx="2057400" cy="290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tersheds are located all over the country. The Chesapeake Bay, The Atlantic Ocean and The Pacific Ocean are examp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772080" cy="328608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 txBox="1"/>
          <p:nvPr/>
        </p:nvSpPr>
        <p:spPr>
          <a:xfrm>
            <a:off x="1981080" y="457200"/>
            <a:ext cx="54104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76765e"/>
                    </a:gs>
                  </a:gsLst>
                  <a:lin ang="5400000"/>
                </a:gradFill>
                <a:latin typeface="Arial Black"/>
              </a:rPr>
              <a:t>Where are watershed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76765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The first part of a watershed is the watershed divide. The second part is the mouth and the third part is the Ground water. (Aquif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3276720" y="3200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 txBox="1"/>
          <p:nvPr/>
        </p:nvSpPr>
        <p:spPr>
          <a:xfrm>
            <a:off x="1295280" y="304920"/>
            <a:ext cx="60199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rts of a watershed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0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ls that live in watersheds are fish, turtles, water bugs, snakes, and many more. Animals that live around watersheds are birds, snakes, butterflies, bugs, frogs, and lizards, to name a f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762120" y="457200"/>
            <a:ext cx="7391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hat lives in watersheds?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762120" y="4800600"/>
            <a:ext cx="2286000" cy="131760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3429000" y="4038480"/>
            <a:ext cx="1676520" cy="12654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1743120" cy="12603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5"/>
          <a:stretch/>
        </p:blipFill>
        <p:spPr>
          <a:xfrm>
            <a:off x="4343400" y="5562720"/>
            <a:ext cx="1600200" cy="109224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6"/>
          <a:stretch/>
        </p:blipFill>
        <p:spPr>
          <a:xfrm>
            <a:off x="7391520" y="5715000"/>
            <a:ext cx="1228680" cy="8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FOR W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Slides, Backgrounds, and Music 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shley Gib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dited By: Ms. Mauney-Ty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523880" y="304920"/>
            <a:ext cx="54864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Pussycat"/>
              </a:rPr>
              <a:t>THE End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Pussycat"/>
              <a:ea typeface="Pussycat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23:24:35Z</dcterms:created>
  <dc:creator> </dc:creator>
  <dc:description/>
  <dc:language>en-US</dc:language>
  <cp:lastModifiedBy>PWCS</cp:lastModifiedBy>
  <dcterms:modified xsi:type="dcterms:W3CDTF">2008-04-10T12:47:12Z</dcterms:modified>
  <cp:revision>20</cp:revision>
  <dc:subject/>
  <dc:title>Slide 1</dc:title>
</cp:coreProperties>
</file>